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5.gif" ContentType="image/gif"/>
  <Override PartName="/ppt/media/image16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0.wmf" ContentType="image/x-wmf"/>
  <Override PartName="/ppt/media/image31.jpeg" ContentType="image/jpeg"/>
  <Override PartName="/ppt/media/image17.wmf" ContentType="image/x-wmf"/>
  <Override PartName="/ppt/media/image11.wmf" ContentType="image/x-wmf"/>
  <Override PartName="/ppt/media/image12.wmf" ContentType="image/x-wmf"/>
  <Override PartName="/ppt/media/image30.jpeg" ContentType="image/jpeg"/>
  <Override PartName="/ppt/media/image4.wmf" ContentType="image/x-wmf"/>
  <Override PartName="/ppt/media/image27.wmf" ContentType="image/x-wmf"/>
  <Override PartName="/ppt/media/image7.gif" ContentType="image/gif"/>
  <Override PartName="/ppt/media/image3.wmf" ContentType="image/x-wmf"/>
  <Override PartName="/ppt/media/image26.wmf" ContentType="image/x-wmf"/>
  <Override PartName="/ppt/media/image6.gif" ContentType="image/gif"/>
  <Override PartName="/ppt/media/image2.wmf" ContentType="image/x-wmf"/>
  <Override PartName="/ppt/media/image25.wmf" ContentType="image/x-wmf"/>
  <Override PartName="/ppt/media/image14.wmf" ContentType="image/x-wmf"/>
  <Override PartName="/ppt/media/image15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4A1-816A-4E8E-A771-DF1207AE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E3D-87FB-4A29-ACA4-14A55F4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792-F4C0-4A42-836B-F4F1B2B5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AA2-D890-41D7-A944-ABABD304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0B9-9157-4381-B8A1-18650D34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88D-0F99-492C-B444-26E9A4F5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3D6-DA1A-4515-9549-898A6279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86F-56F3-4CF3-87D9-AC40EB99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DBF6-32DA-42C3-9504-D9844737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89A-AF32-41CF-B6C4-211E4AB6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D7A-D3FA-456D-A1E1-038AE03F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3B8-A205-458D-AE06-276028B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B317-E16A-42CF-A618-F3AD9EC8A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wmf"/><Relationship Id="rId25" Type="http://schemas.openxmlformats.org/officeDocument/2006/relationships/image" Target="../media/image25.wmf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wmf"/><Relationship Id="rId3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59640" y="61657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ai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068000">
            <a:off x="324000" y="692280"/>
            <a:ext cx="2484360" cy="200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7640" y="3860640"/>
            <a:ext cx="2009880" cy="184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067280" y="4292640"/>
            <a:ext cx="1446120" cy="18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451640" y="2421000"/>
            <a:ext cx="1276560" cy="121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9749000">
            <a:off x="41400" y="2071800"/>
            <a:ext cx="877248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iley's Digetel Portfolio 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2664000" cy="110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340000" y="5157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48360" y="335772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9280" y="5889600"/>
            <a:ext cx="936720" cy="77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5508720" y="4724280"/>
            <a:ext cx="1008000" cy="79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940360" y="2565360"/>
            <a:ext cx="15080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24000" y="2637000"/>
            <a:ext cx="1150920" cy="105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2843280" y="1557360"/>
            <a:ext cx="115236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7956720" y="5373720"/>
            <a:ext cx="93636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5867280" y="5805360"/>
            <a:ext cx="79848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8136000" y="1628640"/>
            <a:ext cx="1008000" cy="81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8172360" y="18900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5724360" y="189000"/>
            <a:ext cx="997200" cy="6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2050920" y="0"/>
            <a:ext cx="922320" cy="97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611280" y="0"/>
            <a:ext cx="934920" cy="99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3419640" y="5956200"/>
            <a:ext cx="1108080" cy="90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132000" y="4653000"/>
            <a:ext cx="1008360" cy="64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7812000" y="3500280"/>
            <a:ext cx="1152720" cy="76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971640" y="5589720"/>
            <a:ext cx="807840" cy="1065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1476360" y="2637000"/>
            <a:ext cx="1128600" cy="60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1547640" y="5157720"/>
            <a:ext cx="101628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3995640" y="0"/>
            <a:ext cx="770040" cy="84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4643280" y="6138720"/>
            <a:ext cx="117792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9"/>
          <a:stretch/>
        </p:blipFill>
        <p:spPr>
          <a:xfrm>
            <a:off x="1763640" y="6251400"/>
            <a:ext cx="1271520" cy="60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260280"/>
            <a:ext cx="85694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lk to the Briars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4149720"/>
            <a:ext cx="25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tart of the year we went to the Briars from school. We had to walk all the way from school. When we got there we had a sausage in b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333360"/>
            <a:ext cx="856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wn Balls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250992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56360" y="242100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irst term the hole class went to Ken’s (Lachlan” Grandad)  lawn balls place near the skate-park each time you got the ball on the dot you got a snake from 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479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h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642920" y="4581360"/>
            <a:ext cx="1295640" cy="432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260280"/>
            <a:ext cx="784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lkathon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27640" y="2492280"/>
            <a:ext cx="26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pril 2008 the hole school went to the leash free area just down the road from the school. Some people finished all the 15 laps but I only did 12 laps out of the15 la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0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3:37:23Z</dcterms:created>
  <dc:creator>Admin</dc:creator>
  <dc:description/>
  <dc:language>en-US</dc:language>
  <cp:lastModifiedBy>Admin</cp:lastModifiedBy>
  <dcterms:modified xsi:type="dcterms:W3CDTF">2008-08-13T23:38:54Z</dcterms:modified>
  <cp:revision>12</cp:revision>
  <dc:subject/>
  <dc:title>Slide 1</dc:title>
</cp:coreProperties>
</file>